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740-6E8E-4760-92E0-B32B4DD6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A86-4268-4ECF-AF3A-B995AF0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903-8D98-46F1-983A-E488582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B6D-266F-4D5E-86B4-1B9A5387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FDE-0C47-49FE-BB5B-1FD584BA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FBB-8E22-4E24-B9CC-5DD0E761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907-BD34-4B6C-B888-2E19DF1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0BA-2617-492F-8209-FDE7F63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C6F-00A0-4839-BD1A-2E327688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044-C315-4C0D-AA1F-A7C3A7E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DBB-3545-47F8-916A-E8577E9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46E-CB41-4A06-906B-68004817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2F5-78B8-4E16-8E76-FE69FE4C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0960" y="3028680"/>
            <a:ext cx="843300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devices are they best for our school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566960"/>
            <a:ext cx="661032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halil Morris,Sierra Price, and Monica 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959200" cy="275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09960" cy="269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1520" y="5181480"/>
            <a:ext cx="325116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07240" y="5181480"/>
            <a:ext cx="34542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G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85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8.9 inch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32 gb of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2 camer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5 megapixels on the back 2 megapixels on the fro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iFi capabil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83360" y="1833480"/>
            <a:ext cx="4843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P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rices around $599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Not much is known about this product because it is not yet rel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83360" y="1422360"/>
            <a:ext cx="45306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blet P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Tool for students to practice writ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Internet access availabl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3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Easier for students to learn on their ow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Lightweigh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67200" y="1828800"/>
            <a:ext cx="5208840" cy="551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51354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c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6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Mobile workpla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No need for over the shoulder hel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83360" y="1930320"/>
            <a:ext cx="4816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droid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Price $23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lash video player capabil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llows user to buy whatever app they chose, now matter who makes i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Usb port compati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75040" y="1747800"/>
            <a:ext cx="52675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berryPlay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Little under $5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laybook storage ranges from 16GB to 64GB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lackberry Cell phone connection is required for cellular u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79960" y="1930320"/>
            <a:ext cx="4957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ny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rice ranges around $25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Qriocity media platform allows players to add music and med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Runs on Andriod 3.0 technolo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To have features that including T.V. u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64240" y="1741320"/>
            <a:ext cx="5330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er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399-$69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.2Ghz Camera pix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Wifi capabil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15mm thick Fr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ocking soul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3G speed fun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eighs under 2.2 pou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etachable keyboard from do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MD silicon processo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65560" y="1828800"/>
            <a:ext cx="5954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sus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eb cam Fun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6GB and 32GB mod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.3 rear and facing camer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4-6 hour battery lif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024 by 6000 rosolu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84880" y="1933560"/>
            <a:ext cx="4432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amsung Galaxy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Ranges around $249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n extra spacious Android ph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igital photo fr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7 inch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Front and rear facing came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Can be charged by laptops U.S.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625760"/>
            <a:ext cx="5133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